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AFB9-3E57-42B9-AC0E-405191F7C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941B-5F1C-4A55-A487-BAB24E99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B93E-34F6-43E5-8FB4-A70A08944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012F-1AA9-4234-9BA9-F7971200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5E44-E1FB-462D-A249-38B088AF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FA2A-FCA7-4BFD-BFA7-7E511752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82DA-CABC-4DC5-A71B-1FB9F44B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321D-5EE3-4CD0-A271-174140A7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DE10-897C-4602-83F9-51C2F749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93F0-5EE2-4C78-9B58-AFDFF18B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FD2C-FBB2-479C-9A1A-5B1A79FA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9012-206B-4271-963F-7D2C5CEB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2356-302C-48E2-AA9E-BECBFC3E97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8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4" descr=""/>
          <p:cNvPicPr/>
          <p:nvPr/>
        </p:nvPicPr>
        <p:blipFill>
          <a:blip r:embed="rId1"/>
          <a:stretch/>
        </p:blipFill>
        <p:spPr>
          <a:xfrm>
            <a:off x="0" y="471492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5" descr=""/>
          <p:cNvPicPr/>
          <p:nvPr/>
        </p:nvPicPr>
        <p:blipFill>
          <a:blip r:embed="rId2"/>
          <a:stretch/>
        </p:blipFill>
        <p:spPr>
          <a:xfrm>
            <a:off x="4114800" y="4653000"/>
            <a:ext cx="5029200" cy="2205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3200400" y="380880"/>
            <a:ext cx="22096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ghanist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war filled and flighty country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2133720" y="2666880"/>
            <a:ext cx="4267080" cy="28371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ountry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overn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arty republ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ital: Kab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nguag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i Persian, Pash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ligions: 99% Muslim, 1%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teracy Rate: 28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tural Resource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 gas, petroleum, coal, copper, sulfur, lead, zinc, iron ore, 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0" y="4343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6705720" y="4724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im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6248520" y="41911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os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3"/>
          <a:stretch/>
        </p:blipFill>
        <p:spPr>
          <a:xfrm>
            <a:off x="5791320" y="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4"/>
          <a:stretch/>
        </p:blipFill>
        <p:spPr>
          <a:xfrm>
            <a:off x="0" y="0"/>
            <a:ext cx="2955960" cy="2666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"/>
          <p:cNvPicPr/>
          <p:nvPr/>
        </p:nvPicPr>
        <p:blipFill>
          <a:blip r:embed="rId5"/>
          <a:stretch/>
        </p:blipFill>
        <p:spPr>
          <a:xfrm>
            <a:off x="0" y="2666880"/>
            <a:ext cx="2133720" cy="1743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"/>
          <p:cNvPicPr/>
          <p:nvPr/>
        </p:nvPicPr>
        <p:blipFill>
          <a:blip r:embed="rId6"/>
          <a:stretch/>
        </p:blipFill>
        <p:spPr>
          <a:xfrm>
            <a:off x="6324480" y="2514600"/>
            <a:ext cx="281952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8:14:02Z</dcterms:created>
  <dc:creator>poweruser</dc:creator>
  <dc:description/>
  <dc:language>en-US</dc:language>
  <cp:lastModifiedBy>BHISD</cp:lastModifiedBy>
  <dcterms:modified xsi:type="dcterms:W3CDTF">2011-11-17T20:42:38Z</dcterms:modified>
  <cp:revision>11</cp:revision>
  <dc:subject/>
  <dc:title>Slide 1</dc:title>
</cp:coreProperties>
</file>